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5.png" ContentType="image/png"/>
  <Override PartName="/ppt/media/image2.gif" ContentType="image/gif"/>
  <Override PartName="/ppt/media/image6.png" ContentType="image/png"/>
  <Override PartName="/ppt/media/image3.gif" ContentType="image/gif"/>
  <Override PartName="/ppt/media/image7.png" ContentType="image/png"/>
  <Override PartName="/ppt/media/image4.gif" ContentType="image/gif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BBA2B-4A7D-4045-A728-5ADABD84D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A2CC3-273B-4C95-9984-B42FEE4D0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2C116-4A28-434D-9B59-150CD02D1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ADEE3-FA31-440F-8C27-619D2E512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98FF1-D869-4D03-9A3C-73A16860D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BB4A5-1190-4F77-AAEC-B78230902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D70E1-E8CB-456F-8AEE-75DC24222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20DF3-6F47-4AC0-B866-7382E66DB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98356-A8DA-4CC4-AB12-BEB179EE2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D954E-ED2C-4792-8975-6C22D66E0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19470-19C8-41E0-8B46-17F3EE07A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2DAB7-038E-4903-8BF5-6B5DBAC12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A4CD0-7C97-4401-A7F4-C4AD17CD5E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arthquake Makeup Bell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ll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04920" y="914400"/>
            <a:ext cx="67816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The ______ ______ is a measure of the actual energy released from an earthqua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The ________ intensity scale is a way of measuring earthquakes based on eyewitness and damage repor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oint or location directly above an earthquake’s foc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called the 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_____ waves are the fastest and are recorded fir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 _____ waves are slower than p-wave and are recorded seco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 An earthquake with a Richter magnitude of 6.0 releases ________ times more energy than a 5.0 earthqua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Earthquake"/>
          <p:cNvPicPr/>
          <p:nvPr/>
        </p:nvPicPr>
        <p:blipFill>
          <a:blip r:embed="rId1"/>
          <a:stretch/>
        </p:blipFill>
        <p:spPr>
          <a:xfrm>
            <a:off x="0" y="0"/>
            <a:ext cx="2190600" cy="819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7086600" y="457200"/>
            <a:ext cx="2057400" cy="3352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nswer Ban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(1 will be used twic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chter sc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rcalli Sc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m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rthqua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ll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6553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the name of the fault we have here in California where major earthquakes are produc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The ______ ______ is a measure of the actual energy released from an earthqu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Earthquakes with magnitudes________ usually are not _______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Earthquakes with magnitude _______ can cause severe dama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7377120" y="4267080"/>
            <a:ext cx="1066680" cy="16765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6934320" y="609480"/>
            <a:ext cx="1981080" cy="3353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nswer Ban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(1 will be used twic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chter sc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.0 - 8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rcalli Sc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m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0 - 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n Andr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83808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The_____ is the point in the earth’s interior where earthquake energy is releas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The _______ is the point or location directly above an earthquake’s focu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The three types of seismic waves are_____, _____, and _____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______ waves are always recorded first and ______ are always recorded seco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What do we call the time delay between the P and S wave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. Please Dra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labe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048120" y="4657680"/>
            <a:ext cx="6095880" cy="22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" cy="7542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676520" y="152280"/>
            <a:ext cx="4724280" cy="87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Bellwor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9" dur="25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0" dur="250" fill="hold">
                                          <p:stCondLst>
                                            <p:cond delay="75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8600" y="2590920"/>
            <a:ext cx="731520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ation ____ is located farther from the epicenter because it has a _____ S-P time dela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ation is _____ is located clo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to the epicenter because it has a ______ S-P time delay interv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3) The Mercalli and Richter scales can both be used to measure earthquake ________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4) An earthquake with a Richter magnitude of 5.0 releases _____ times more energy than a 7.0 earthquake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52280" y="0"/>
            <a:ext cx="8839440" cy="2717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7467480" y="2895480"/>
            <a:ext cx="1676520" cy="2743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nswer Ba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qu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-wa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gnitu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or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r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752480" y="0"/>
            <a:ext cx="5105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Arial"/>
              </a:rPr>
              <a:t>Bellwor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8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9" dur="25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0" dur="250" fill="hold">
                                          <p:stCondLst>
                                            <p:cond delay="75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151920" y="3170160"/>
            <a:ext cx="6705720" cy="368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About how long did it take for the first P-waves to reach station 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About how long did it take for the first S-waves to reach station 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About how long did it take for the first P-waves to reach station B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About how long did it take for the first S-waves to reach station B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990720" y="0"/>
            <a:ext cx="5333760" cy="317484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4952880" y="0"/>
            <a:ext cx="1676520" cy="2819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4952880" y="152280"/>
            <a:ext cx="4191120" cy="22100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6858000" y="2895480"/>
            <a:ext cx="2286000" cy="3048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nswer Ba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4 minu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1 minut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0 minu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 minu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1 minu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 minut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rot="16200000">
            <a:off x="-571320" y="723960"/>
            <a:ext cx="22860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ll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mph" presetID="28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Clr clrSpc="rgb">
                                      <p:cBhvr>
                                        <p:cTn id="26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  <p:animClr clrSpc="rgb">
                                      <p:cBhvr>
                                        <p:cTn id="27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  <p:set>
                                      <p:cBhvr>
                                        <p:cTn id="28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29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triangulation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5700600" y="1371600"/>
            <a:ext cx="3443400" cy="365760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151920" y="160020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adius of each circle represents the______ to the epicen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ismic station ___ feels and records the earthquake fir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ismic station ___ feels and records the earthquake seco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ismic station ____ is 1200 km away from the epicen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676520" y="152280"/>
            <a:ext cx="5105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3300"/>
                </a:solidFill>
                <a:latin typeface="Arial"/>
              </a:rPr>
              <a:t>Bellwork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3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3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8" dur="25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39" dur="250" fill="hold">
                                          <p:stCondLst>
                                            <p:cond delay="75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3T15:36:10Z</dcterms:created>
  <dc:creator>jfuller</dc:creator>
  <dc:description/>
  <dc:language>en-US</dc:language>
  <cp:lastModifiedBy>jfuller</cp:lastModifiedBy>
  <dcterms:modified xsi:type="dcterms:W3CDTF">2011-10-03T15:36:14Z</dcterms:modified>
  <cp:revision>1</cp:revision>
  <dc:subject/>
  <dc:title>Earthquake Makeup Bellwork</dc:title>
</cp:coreProperties>
</file>